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E23E-DFAC-40AB-863E-BA61B085E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B08C-142F-4788-81AA-421FB7EC6A12}" type="slidenum">
              <a:rPr b="0" lang="en-US" sz="12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CD53-2E63-423E-A265-BFCC0DDEE848}" type="slidenum">
              <a:rPr b="0" lang="en-US" sz="12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CD5A-FE40-477D-B6E1-A30D8CB614F2}" type="slidenum">
              <a:rPr b="0" lang="en-US" sz="12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ABEC-9FFA-4521-9CEB-9FE20D5729C7}" type="slidenum">
              <a:rPr b="0" lang="en-US" sz="12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8DF4-56E6-4FC7-B4DD-A23AE785FD3F}" type="slidenum">
              <a:rPr b="0" lang="en-US" sz="12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BE3D-A052-4D80-991F-5DD705307453}" type="slidenum">
              <a:rPr b="0" lang="en-US" sz="12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5A34-0139-400C-A833-41AE0AC54C9D}" type="slidenum">
              <a:rPr b="0" lang="en-US" sz="12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3EE-1049-497B-8811-6D27DAA0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30D-4BB8-4D58-9FD9-5837DDCA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1EA-BF12-4486-955D-5260E624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3E1-6040-4713-997D-484F9974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B560-930F-4ECD-B28F-ED77D1A9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4B4E-EDFC-43A2-B0AF-FCD35D34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AB1D-5D23-4258-85BE-C8CCD452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2F77-745E-435A-9AA7-F9FBCEBC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9DEC-0D95-462B-B442-5E2CE1F8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4DC3-42A5-442C-B57F-A061EE4C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F5BC-CADE-421F-9639-B6ADB3D0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1E9B-5FA4-4613-A796-23BD9DCC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6588-5F11-40BB-B49C-F9E74540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58E9-306D-4103-AB69-EA10FFFA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EA2F-F2FC-4FD9-B579-C8AF695E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6C34-4755-4D73-A8D7-7DD36194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50E2-87B4-4F5C-BBF2-35AA8B87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0D7-85C9-47C8-B44B-232C1FE3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9FA-4C6F-43EB-A5BD-875E06E2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A1A-9C41-4E44-9365-A16F3B2E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42FF-FB1B-42AD-98FE-88030C42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CB8-63EE-4550-8F5E-3F3E6629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19B-9AA5-47BA-A46E-6F7A685C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D6E-74F0-4C7B-9621-D02B46A3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jellyfishsmall"/>
          <p:cNvPicPr/>
          <p:nvPr/>
        </p:nvPicPr>
        <p:blipFill>
          <a:blip r:embed="rId2"/>
          <a:srcRect l="12136" t="19398" r="47694" b="0"/>
          <a:stretch/>
        </p:blipFill>
        <p:spPr>
          <a:xfrm>
            <a:off x="6515280" y="3200400"/>
            <a:ext cx="2628720" cy="35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1373-E5B1-4C8F-9C9F-7BC83ED0A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jellyfish"/>
          <p:cNvPicPr/>
          <p:nvPr/>
        </p:nvPicPr>
        <p:blipFill>
          <a:blip r:embed="rId2"/>
          <a:srcRect l="0" t="0" r="10933" b="0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3b3b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28EB-57C6-4740-8828-CE56D4358858}" type="slidenum">
              <a:rPr b="0" lang="en-US" sz="1400" spc="-1" strike="noStrike">
                <a:solidFill>
                  <a:srgbClr val="b3b3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Estimating With Percents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95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Lesson 6-8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Sales Tax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Round the cost of a given item to the nearest dollar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Multiply that estimate by the decimal version of the sales tax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Add the original price to the tax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1200" y="227160"/>
            <a:ext cx="81630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Arial"/>
              </a:rPr>
              <a:t>Example </a:t>
            </a:r>
            <a:r>
              <a:rPr b="0" lang="en-US" sz="2800" spc="-1" strike="noStrike">
                <a:solidFill>
                  <a:srgbClr val="ff6666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6666"/>
                </a:solidFill>
                <a:latin typeface="Arial"/>
              </a:rPr>
              <a:t> A scarf costs $14.99.  If the sales tax is 6%, how much does the scarf cost in all?</a:t>
            </a:r>
            <a:endParaRPr b="0" lang="en-US" sz="28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133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$14.99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2819520" y="2438280"/>
            <a:ext cx="838080" cy="0"/>
          </a:xfrm>
          <a:prstGeom prst="line">
            <a:avLst/>
          </a:prstGeom>
          <a:ln w="9360">
            <a:solidFill>
              <a:srgbClr val="b3b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657600" y="2133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$15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914400" y="29401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6%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2057400" y="3276720"/>
            <a:ext cx="1066680" cy="0"/>
          </a:xfrm>
          <a:prstGeom prst="line">
            <a:avLst/>
          </a:prstGeom>
          <a:ln w="9360">
            <a:solidFill>
              <a:srgbClr val="b3b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124080" y="2895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0.06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914400" y="3701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15 x 0.06 = 0.90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562720" y="3657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The tax is $0.90.</a:t>
            </a: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990720" y="4648320"/>
            <a:ext cx="6858000" cy="82548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The scarf is about $15.00, and the tax is about $0.90, so the total cost is about $15.90.</a:t>
            </a: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Estimating a Tip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Estimate the cost of the meal to the nearest dollar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Multiply that cost by the decimal version of the tip (a tip is usually 15%)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Add the tip to the bill for the total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xample </a:t>
            </a:r>
            <a:r>
              <a:rPr b="0" lang="en-US" sz="3200" spc="-1" strike="noStrike">
                <a:solidFill>
                  <a:srgbClr val="ff6666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 A meal costs $26.22.  What is the total bill, including a 15% tip?</a:t>
            </a:r>
            <a:endParaRPr b="0" lang="en-US" sz="32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57200" y="1981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$26.22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2438280" y="2286000"/>
            <a:ext cx="990720" cy="0"/>
          </a:xfrm>
          <a:prstGeom prst="line">
            <a:avLst/>
          </a:prstGeom>
          <a:ln w="9360">
            <a:solidFill>
              <a:srgbClr val="b3b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505320" y="19810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$26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57200" y="2711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15%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1981080" y="3048120"/>
            <a:ext cx="1371600" cy="0"/>
          </a:xfrm>
          <a:prstGeom prst="line">
            <a:avLst/>
          </a:prstGeom>
          <a:ln w="9360">
            <a:solidFill>
              <a:srgbClr val="b3b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505320" y="27115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0.15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09480" y="35496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$26 x 0.15 = $3.9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486400" y="3581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$3.9 is $3.90.  This is the tip.</a:t>
            </a: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09480" y="44640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$26.00 + $3.90 = $29.90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181480" y="52578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The total cost of the meal is close to $30.</a:t>
            </a: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Estimating a Sale Price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ubtract the percent off from 100 to see what percent you are paying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Multiply the original price by the percent you are paying (in decimal form)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or example, if an item was on sale for 25% off, then you are actually paying 75% of the original value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71200" y="250920"/>
            <a:ext cx="81630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Arial"/>
              </a:rPr>
              <a:t>Example -  A video game costs $49.95.  If it goes on sale for 30% off, then what is the sale price?</a:t>
            </a:r>
            <a:endParaRPr b="0" lang="en-US" sz="28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981080"/>
            <a:ext cx="5715000" cy="45972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The original price is about $50.</a:t>
            </a: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14400" y="2597040"/>
            <a:ext cx="5715000" cy="82548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100% - 30% means that we are paying 70% of the original cost.</a:t>
            </a: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14400" y="3581280"/>
            <a:ext cx="5715000" cy="45972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70% is 0.7 in decimal form.</a:t>
            </a: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914400" y="4267080"/>
            <a:ext cx="5715000" cy="82548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$50 x 0.7 = $35.  The sale price is about $35.</a:t>
            </a: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22:58Z</dcterms:created>
  <dc:creator>Josh Hammond</dc:creator>
  <dc:description/>
  <dc:language>en-US</dc:language>
  <cp:lastModifiedBy>Home</cp:lastModifiedBy>
  <dcterms:modified xsi:type="dcterms:W3CDTF">2010-11-14T18:12:06Z</dcterms:modified>
  <cp:revision>13</cp:revision>
  <dc:subject/>
  <dc:title>Estimating With Percents</dc:title>
</cp:coreProperties>
</file>